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AD3-FE49-413E-992D-12B95BCE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63A-4663-4E55-9921-41E548C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44F-884C-4065-92F9-11892AB9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C58-E28B-4647-A6D1-C374290C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E38-1480-4188-8414-AC8EFE2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37C-22F6-4852-8EF3-881242A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CA3-C9E0-4181-91E4-4C6AA51C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572-443E-46BA-9701-1BA7FA8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A97-C8E1-448D-9F4E-CC60CFE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996-D246-4D36-825C-E5CF6A2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260-FC82-47CF-ABC3-F269E14B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C17-498C-48D9-A1F3-415F8DFC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550-0FB9-4C21-A836-9E0E8EB7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qual sharing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9528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general the electro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n the right side of the periodic table have a greater attraction for electrons than those on the left 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, in general, the element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 the top of a group have greater attraction than those at the bottom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95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lar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molecule of an element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atoms that form a covalent bond have the same ability to attract an electron.  Thus the electrons are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43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molecule of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ound, however, the electrons may not be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lar covalent bond: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ond in which the electrons are not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some atom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reater attraction for electrons, they can pull the shared electrons closer to it than the other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w, because of thi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lling of the electrons (e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, the atom with the big attraction becomes slightly negative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δ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 &amp; the other atom has a slightly positive charge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δ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429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is a molecule polar or nonpo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ll, if the molecu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nly has 2 atoms = always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w if 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an 2 atoms, not so obv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factors determine whether a molecule is polar or non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ypes of atoms in th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hape of th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2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tractions amo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npolar molecules are weaker than attractions among pol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13372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lecular compounds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re are force of attractions between th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s strong 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ose in ionic bonds, but they are still strong enough to hold together in a liquid or 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86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tractions betwe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olar molecules are stronger than attractions between nonpol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47:35Z</dcterms:created>
  <dc:creator>jpak</dc:creator>
  <dc:description/>
  <dc:language>en-US</dc:language>
  <cp:lastModifiedBy>Customer</cp:lastModifiedBy>
  <dcterms:modified xsi:type="dcterms:W3CDTF">2009-11-02T13:33:12Z</dcterms:modified>
  <cp:revision>9</cp:revision>
  <dc:subject/>
  <dc:title>Note Guide 4-2 day 2</dc:title>
</cp:coreProperties>
</file>